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laser.wav" ContentType="audio/x-wav"/>
  <Override PartName="/ppt/media/image8.wmf" ContentType="image/x-wmf"/>
  <Override PartName="/ppt/media/image1.jpeg" ContentType="image/jpeg"/>
  <Override PartName="/ppt/media/image4.wmf" ContentType="image/x-wmf"/>
  <Override PartName="/ppt/media/BOINGG.WAV" ContentType="audio/x-wav"/>
  <Override PartName="/ppt/media/image2.jpeg" ContentType="image/jpeg"/>
  <Override PartName="/ppt/media/CHEEPCHP.WAV" ContentType="audio/x-wav"/>
  <Override PartName="/ppt/media/music.wav" ContentType="audio/x-wav"/>
  <Override PartName="/ppt/media/image3.wmf" ContentType="image/x-wmf"/>
  <Override PartName="/ppt/media/image5.jpeg" ContentType="image/jpeg"/>
  <Override PartName="/ppt/media/compress.wav" ContentType="audio/x-wav"/>
  <Override PartName="/ppt/media/HITWALL.WAV" ContentType="audio/x-wav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B5B7-5AC4-42E7-86E6-2D09A1F3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6863-4FDA-47FC-83E6-1FC67987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E31-760A-43B4-921E-85879CF1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3127-D94C-44A3-9A0F-A92B0544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7A8B-7538-42D9-860C-C3CEDD2C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27B4-55F4-4D60-8DA0-AC944E50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86BE-3D20-4E8B-B939-B254E72E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C797-10CB-47CB-9209-BD398DD7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FB08-73EA-4679-9B07-1F0CCA58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53316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1BCB-F09F-49EE-A8EE-FA57DCEF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2979-B667-4FC9-BEB7-5311B818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1F62-5539-4EBE-855B-888ECA61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8CDF-7ACC-4676-8984-50828A47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CAA2-0CB2-4DDA-B56E-BEB955C3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4111-C7DC-4D64-B5D4-6A917BFF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2128-A393-4419-BF24-AA8703BB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149B-5048-4332-AB36-FB04D46D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EDC5-F71C-451B-A3FA-BB87B8FF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803-3E75-4E04-88DE-1624AB96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A65D-2148-4F72-9D3C-BA197C76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53316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21BF-3950-466E-9137-086846E6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B843-A79A-4FDC-944B-332737CC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43D9-91C1-4C94-8AE9-51111B05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6B4F-17B0-4B33-9BA2-7504971E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6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C3C7-30C7-4CC6-A3F4-2ACAF8D737ED}" type="slidenum">
              <a: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6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F8B4-1E95-4F86-A827-4F84039B402C}" type="slidenum">
              <a: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66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EEPCHP.WAV"/><Relationship Id="rId3" Type="http://schemas.openxmlformats.org/officeDocument/2006/relationships/audio" Target="../media/music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audio" Target="../media/CHEEPCHP.WAV"/><Relationship Id="rId4" Type="http://schemas.openxmlformats.org/officeDocument/2006/relationships/audio" Target="../media/music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audio" Target="../media/HITWALL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BOINGG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audio" Target="../media/BOINGG.WAV"/><Relationship Id="rId4" Type="http://schemas.openxmlformats.org/officeDocument/2006/relationships/audio" Target="../media/compress.wav"/><Relationship Id="rId5" Type="http://schemas.openxmlformats.org/officeDocument/2006/relationships/audio" Target="../media/compress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32000" y="765000"/>
            <a:ext cx="348804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لوحدة الخامسة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55640" y="2492280"/>
            <a:ext cx="799164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6600">
                      <a:alpha val="70000"/>
                    </a:srgbClr>
                  </a:outerShdw>
                </a:effectLst>
                <a:latin typeface="Hesham AlSharq"/>
              </a:rPr>
              <a:t>المـــادة</a:t>
            </a:r>
            <a:endParaRPr b="1" lang="en-US" sz="72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006600">
                    <a:alpha val="70000"/>
                  </a:srgbClr>
                </a:outerShdw>
              </a:effectLst>
              <a:latin typeface="Hesham AlSharq"/>
              <a:ea typeface="Hesham AlSharq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132000" y="765000"/>
            <a:ext cx="348804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لدرس الأول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5640" y="2492280"/>
            <a:ext cx="799164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6600">
                      <a:alpha val="70000"/>
                    </a:srgbClr>
                  </a:outerShdw>
                </a:effectLst>
                <a:latin typeface="Hesham AlSharq"/>
              </a:rPr>
              <a:t>صفات المواد</a:t>
            </a:r>
            <a:endParaRPr b="1" lang="en-US" sz="72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006600">
                    <a:alpha val="70000"/>
                  </a:srgbClr>
                </a:outerShdw>
              </a:effectLst>
              <a:latin typeface="Hesham AlSharq"/>
              <a:ea typeface="Hesham AlSharq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251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4000" y="2852640"/>
            <a:ext cx="79200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00"/>
                </a:solidFill>
                <a:latin typeface="Times New Roman"/>
              </a:rPr>
              <a:t>عِنْدما نَصِفُ شَيْئًا ما فَإِنّنا نَتَحَدَّثُ عَنْ صِفاتٍه، مِثْلِ: اللَّوْنِ، والشَّكْلِ، وَالْحَجْمِ، وَالْمَلْمَسِ، وَالرَّائِحَةِ، وَالطَّعْمِ، وَالصَّوْتِ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11640" y="1052640"/>
            <a:ext cx="357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800000"/>
                </a:solidFill>
                <a:latin typeface="Times New Roman"/>
              </a:rPr>
              <a:t>ما اَلْمَادَّةُ</a:t>
            </a:r>
            <a:endParaRPr b="0" lang="en-US" sz="9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3097440" cy="1654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50920" y="5013360"/>
            <a:ext cx="320508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TWA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419640" y="620640"/>
            <a:ext cx="5724360" cy="1079640"/>
          </a:xfrm>
          <a:custGeom>
            <a:avLst/>
            <a:gdLst>
              <a:gd name="textAreaLeft" fmla="*/ 892440 w 5724360"/>
              <a:gd name="textAreaRight" fmla="*/ 4831920 w 5724360"/>
              <a:gd name="textAreaTop" fmla="*/ 13500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93" y="0"/>
                </a:lnTo>
                <a:arcTo wR="675" hR="675" stAng="16200000" swAng="5400000"/>
                <a:lnTo>
                  <a:pt x="6068" y="2700"/>
                </a:lnTo>
                <a:lnTo>
                  <a:pt x="15532" y="2700"/>
                </a:lnTo>
                <a:lnTo>
                  <a:pt x="15532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232" y="18900"/>
                </a:lnTo>
                <a:lnTo>
                  <a:pt x="18232" y="20925"/>
                </a:lnTo>
                <a:arcTo wR="675" hR="675" stAng="0" swAng="5400000"/>
                <a:lnTo>
                  <a:pt x="4043" y="21600"/>
                </a:lnTo>
                <a:arcTo wR="675" hR="675" stAng="5400000" swAng="5400000"/>
                <a:lnTo>
                  <a:pt x="3368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068" y="675"/>
                </a:moveTo>
                <a:arcTo wR="675" hR="675" stAng="0" swAng="5400000"/>
                <a:lnTo>
                  <a:pt x="4043" y="1350"/>
                </a:lnTo>
                <a:arcTo wR="675" hR="675" stAng="16200000" swAng="-5400000"/>
                <a:arcTo wR="675" hR="675" stAng="10800000" swAng="-5400000"/>
                <a:lnTo>
                  <a:pt x="6068" y="2700"/>
                </a:lnTo>
              </a:path>
              <a:path fill="none" w="21600" h="21600">
                <a:moveTo>
                  <a:pt x="15532" y="675"/>
                </a:moveTo>
                <a:arcTo wR="675" hR="675" stAng="10800000" swAng="-5400000"/>
                <a:lnTo>
                  <a:pt x="17557" y="1350"/>
                </a:lnTo>
                <a:arcTo wR="675" hR="675" stAng="16200000" swAng="5400000"/>
                <a:arcTo wR="675" hR="675" stAng="0" swAng="5400000"/>
                <a:lnTo>
                  <a:pt x="15532" y="2700"/>
                </a:lnTo>
              </a:path>
              <a:path fill="none" w="21600" h="21600">
                <a:moveTo>
                  <a:pt x="3368" y="2025"/>
                </a:moveTo>
                <a:lnTo>
                  <a:pt x="3368" y="18900"/>
                </a:lnTo>
              </a:path>
              <a:path fill="none" w="21600" h="21600">
                <a:moveTo>
                  <a:pt x="18232" y="2025"/>
                </a:moveTo>
                <a:lnTo>
                  <a:pt x="18232" y="18900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99ff33"/>
              </a:gs>
              <a:gs pos="100000">
                <a:srgbClr val="ff9900"/>
              </a:gs>
            </a:gsLst>
            <a:lin ang="81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ff0000"/>
                </a:solidFill>
                <a:latin typeface="Times New Roman"/>
              </a:rPr>
              <a:t>حالات المادة</a:t>
            </a:r>
            <a:r>
              <a:rPr b="1" lang="ar-SA" sz="5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2205000"/>
            <a:ext cx="82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تُوْجَدُ المَادَةُ فِي ثَلاثِ حالاتٍ، هِيَ: الصُّلْبَةُ، السائلة ، الغازية ,رغم معرفتنا الجيدة لهذه الحقيقة الا انه علينا توضيحها من الناحية الفيزيائية فهناك مواد يمكن تحويلها من سائل الى غاز بالتسخين واخرى بتأثير التسخين تحول من صلبة الى سائلة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02436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08000" y="549360"/>
            <a:ext cx="5616720" cy="1222200"/>
          </a:xfrm>
          <a:custGeom>
            <a:avLst/>
            <a:gdLst>
              <a:gd name="textAreaLeft" fmla="*/ 875520 w 5616720"/>
              <a:gd name="textAreaRight" fmla="*/ 4741200 w 5616720"/>
              <a:gd name="textAreaTop" fmla="*/ 152640 h 1222200"/>
              <a:gd name="textAreaBottom" fmla="*/ 122256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93" y="0"/>
                </a:lnTo>
                <a:arcTo wR="675" hR="675" stAng="16200000" swAng="5400000"/>
                <a:lnTo>
                  <a:pt x="6068" y="2700"/>
                </a:lnTo>
                <a:lnTo>
                  <a:pt x="15532" y="2700"/>
                </a:lnTo>
                <a:lnTo>
                  <a:pt x="15532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232" y="18900"/>
                </a:lnTo>
                <a:lnTo>
                  <a:pt x="18232" y="20925"/>
                </a:lnTo>
                <a:arcTo wR="675" hR="675" stAng="0" swAng="5400000"/>
                <a:lnTo>
                  <a:pt x="4043" y="21600"/>
                </a:lnTo>
                <a:arcTo wR="675" hR="675" stAng="5400000" swAng="5400000"/>
                <a:lnTo>
                  <a:pt x="3368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068" y="675"/>
                </a:moveTo>
                <a:arcTo wR="675" hR="675" stAng="0" swAng="5400000"/>
                <a:lnTo>
                  <a:pt x="4043" y="1350"/>
                </a:lnTo>
                <a:arcTo wR="675" hR="675" stAng="16200000" swAng="-5400000"/>
                <a:arcTo wR="675" hR="675" stAng="10800000" swAng="-5400000"/>
                <a:lnTo>
                  <a:pt x="6068" y="2700"/>
                </a:lnTo>
              </a:path>
              <a:path fill="none" w="21600" h="21600">
                <a:moveTo>
                  <a:pt x="15532" y="675"/>
                </a:moveTo>
                <a:arcTo wR="675" hR="675" stAng="10800000" swAng="-5400000"/>
                <a:lnTo>
                  <a:pt x="17557" y="1350"/>
                </a:lnTo>
                <a:arcTo wR="675" hR="675" stAng="16200000" swAng="5400000"/>
                <a:arcTo wR="675" hR="675" stAng="0" swAng="5400000"/>
                <a:lnTo>
                  <a:pt x="15532" y="2700"/>
                </a:lnTo>
              </a:path>
              <a:path fill="none" w="21600" h="21600">
                <a:moveTo>
                  <a:pt x="3368" y="2025"/>
                </a:moveTo>
                <a:lnTo>
                  <a:pt x="3368" y="18900"/>
                </a:lnTo>
              </a:path>
              <a:path fill="none" w="21600" h="21600">
                <a:moveTo>
                  <a:pt x="18232" y="2025"/>
                </a:moveTo>
                <a:lnTo>
                  <a:pt x="18232" y="18900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99ff33"/>
              </a:gs>
              <a:gs pos="100000">
                <a:srgbClr val="ff9900"/>
              </a:gs>
            </a:gsLst>
            <a:lin ang="81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800" spc="-1" strike="noStrike">
                <a:solidFill>
                  <a:srgbClr val="006600"/>
                </a:solidFill>
                <a:latin typeface="Times New Roman"/>
              </a:rPr>
              <a:t>ما الْكُتْلَةُ؟</a:t>
            </a:r>
            <a:endParaRPr b="0" lang="en-US" sz="6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2421000"/>
            <a:ext cx="88200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الْكُتْلَةُ أَيْضًا صِفَةٌ لِلْمادَّةِ. والْكُتْلةَُ هِيَ كَمِّيِّةُ الْمَادَّةِ الْمَوْجودَةُ في الشَّيْءِ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الأَشْياءُ جَميعُها لَها كُتْلَةٌ، لَكِنَّ الأَشْياءَ تَخْتَلِفُ في كُتْلَتِها. فَالأَشْياءُ الثَّقيلَةُ لَها كُتْلَةٌ أَكْبَرُ مِنْ كُتْلَةِ الأَشْياءِ الْخَفيفَةِ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ar-SA" sz="4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5084640"/>
            <a:ext cx="28432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mpre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mpre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507960"/>
            <a:ext cx="82090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200" spc="-1" strike="noStrike">
                <a:solidFill>
                  <a:srgbClr val="000000"/>
                </a:solidFill>
                <a:latin typeface="Times New Roman"/>
              </a:rPr>
              <a:t>يسُتْخَْدمَ الْميزانُ لِقياسِ الْكُتْلَةِ.</a:t>
            </a:r>
            <a:endParaRPr b="0" lang="en-US" sz="62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56000" y="3068640"/>
            <a:ext cx="439236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2:39:23Z</dcterms:modified>
  <cp:revision>32</cp:revision>
  <dc:subject/>
  <dc:title>PowerPoint Presentation</dc:title>
</cp:coreProperties>
</file>